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016-6A3E-4FE6-A5E3-393A3A36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659-787C-4176-AA7A-5975CC80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C2B-C1AE-416B-A142-3B63B94F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B2C-DFE6-46F2-BE53-6ABF138B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1409-FE3B-4444-B112-F5968749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7F25-1E4B-4601-904C-23BDF8C8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1300-C0EE-4169-BEA3-0AA38E55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1223-1384-48B4-8298-96011508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F3FC-F9AD-4232-AFC5-31738622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DB3C-FAFA-4D98-8888-2E0ED5B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EE01-C42D-4EED-9B68-76623B9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F60-8FF3-460C-8E53-29F45C87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BF5-5FCC-421D-ADB3-8E502A7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3C86-6CA0-46EC-88DC-D84B6AC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5D0A-D2EC-4EB7-9D01-F5CFC66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04F8-DA6B-4D3C-8CD7-79781D0F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0FC1-AA49-4D73-8AF7-976D4132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5800-4589-475A-B99F-1D0B8DE0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7205-DFFF-4076-921F-57EC05DA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10B9-41E8-430A-8FB6-A226176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D423-9DAA-4CF7-9156-7B310115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B42C-38C4-4EB7-AEF0-C2B34C01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5F8-FFAE-4612-A8D0-2CEB2B7E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C68B-7380-4F94-91C0-6B881334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5037-A4F2-4A6B-A426-8917441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FE4D4-678C-43CE-81EE-C3004ED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4AD6-393A-45D6-80D7-0D33A8F4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880E-AAA1-4776-B5BB-59FAACAC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3C0E-9D80-4D0D-BFB6-079BD7D1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FE19-9811-4126-9554-F46930BF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2154-C0A2-46A6-94C4-8A87BE34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B7A4-3225-4A74-AA44-1EA37E7E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F7145-C6EB-4102-8B95-6D30DA04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766-9CE6-4831-A8B1-21F7004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08CB-4D1F-4FE0-AB05-7BF3EF4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D500-8165-42C7-8098-FDDCBDDD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0448-9F15-4F48-B96C-FE686DF9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06301-402F-4E4D-838D-B1D2F36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0E3D-BEFD-4A20-95FE-2FC1519A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E7D7-B63C-40B9-9AD7-AE61DE2D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4F711-42EE-4C3C-89AB-1A0CD0DC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3089-A3ED-49F7-9828-C1FE0B86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80FFD-257C-472B-BF42-98A267C3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319-0EBD-4818-AE70-938F63D1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41D-4AE3-49E1-8625-2532FBBB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A7E-4D1B-4338-B4CC-B389B0A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3EF-7113-402C-9321-8C56375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0D5-A714-49B7-BEA6-C292952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26C6-976F-4C8E-82C5-2E7DB6E116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D3C9-9673-4EB8-95FD-306FC10C42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28E5-FF02-4B25-B8CC-AC2470D78AB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D6C0-7768-48CE-9AC8-48F1D03DFC8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74680" y="1133640"/>
            <a:ext cx="8820000" cy="243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6143760" y="4429080"/>
            <a:ext cx="224784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гадайте кроссвор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0" y="1000080"/>
          <a:ext cx="5286240" cy="3000600"/>
        </p:xfrm>
        <a:graphic>
          <a:graphicData uri="http://schemas.openxmlformats.org/drawingml/2006/table">
            <a:tbl>
              <a:tblPr/>
              <a:tblGrid>
                <a:gridCol w="414360"/>
                <a:gridCol w="466560"/>
                <a:gridCol w="439920"/>
                <a:gridCol w="441360"/>
                <a:gridCol w="439560"/>
                <a:gridCol w="441360"/>
                <a:gridCol w="441360"/>
                <a:gridCol w="439920"/>
                <a:gridCol w="441000"/>
                <a:gridCol w="439920"/>
                <a:gridCol w="441360"/>
                <a:gridCol w="439560"/>
              </a:tblGrid>
              <a:tr h="42876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81"/>
          <p:cNvSpPr/>
          <p:nvPr/>
        </p:nvSpPr>
        <p:spPr>
          <a:xfrm>
            <a:off x="214200" y="404568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умма длин сторон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нструмент для измерения длины отрез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авило, записанное с помощью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йден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Арифметическое 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исло, на которое нельзя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те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571760"/>
          <a:ext cx="8472600" cy="4503600"/>
        </p:xfrm>
        <a:graphic>
          <a:graphicData uri="http://schemas.openxmlformats.org/drawingml/2006/table">
            <a:tbl>
              <a:tblPr/>
              <a:tblGrid>
                <a:gridCol w="706320"/>
                <a:gridCol w="551160"/>
                <a:gridCol w="860400"/>
                <a:gridCol w="706320"/>
                <a:gridCol w="706320"/>
                <a:gridCol w="706680"/>
                <a:gridCol w="704520"/>
                <a:gridCol w="706680"/>
                <a:gridCol w="706320"/>
                <a:gridCol w="706320"/>
                <a:gridCol w="704880"/>
                <a:gridCol w="706680"/>
              </a:tblGrid>
              <a:tr h="650880"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ый сч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и вычислите: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! = 3 · 2 · 1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7045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ие измерения надо провести, чтобы найти площадь прямоугольника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 = a · 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1714680" y="2643120"/>
            <a:ext cx="5500440" cy="200016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1643040"/>
            <a:ext cx="864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ь квадрата равна квадрату его стороны: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                               </a:t>
            </a: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i="1" lang="ru-RU" sz="6000" spc="-1" strike="noStrike">
                <a:solidFill>
                  <a:srgbClr val="ff0000"/>
                </a:solidFill>
                <a:latin typeface="Constantia"/>
              </a:rPr>
              <a:t> = а</a:t>
            </a:r>
            <a:r>
              <a:rPr b="0" i="1" lang="ru-RU" sz="6000" spc="-1" strike="noStrike" baseline="30000">
                <a:solidFill>
                  <a:srgbClr val="ff0000"/>
                </a:solidFill>
                <a:latin typeface="Constant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2786040" y="3000240"/>
            <a:ext cx="2143080" cy="2071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1196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86240" indent="-7862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и равных фигур равны.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Их периметры тоже рав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 = S2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 =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Равнобедренный треугольник 3"/>
          <p:cNvSpPr/>
          <p:nvPr/>
        </p:nvSpPr>
        <p:spPr>
          <a:xfrm>
            <a:off x="714240" y="257184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4"/>
          <p:cNvSpPr/>
          <p:nvPr/>
        </p:nvSpPr>
        <p:spPr>
          <a:xfrm>
            <a:off x="5072040" y="242892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2. Площадь всей фигуры равна сумме площадей ее част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 = S1 + S2 + S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214280" y="3286080"/>
            <a:ext cx="1714680" cy="1857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928960" y="3286080"/>
            <a:ext cx="1714320" cy="1857600"/>
          </a:xfrm>
          <a:prstGeom prst="rect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643280" y="3286080"/>
            <a:ext cx="1714680" cy="185760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м итоги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прямоугольни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квадрат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акие свойства площадей вы запомнили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6:00Z</dcterms:created>
  <dc:creator>Admin</dc:creator>
  <dc:description/>
  <dc:language>en-US</dc:language>
  <cp:lastModifiedBy>Макаров</cp:lastModifiedBy>
  <dcterms:modified xsi:type="dcterms:W3CDTF">2012-12-03T05:02:39Z</dcterms:modified>
  <cp:revision>14</cp:revision>
  <dc:subject/>
  <dc:title>08.12</dc:title>
</cp:coreProperties>
</file>